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986-9109-4E3D-A16E-A9C458B9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1FF-ACF2-485C-A79A-1A6C49E4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4E2-E328-4888-908C-B8F19BCA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EE0-840D-42B9-97A4-C8CD8D6B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D60-3D60-40DF-B9D2-FD517C6B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443-94C9-43FF-BF4C-07577A4F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FF3-6251-4A27-98DC-9AA6C071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326-0CD2-47C6-B7E2-6BDF557B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B86-FDDB-43C5-9F29-8781C304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7C2-18BE-429C-BD28-C1FCD86C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EED-E29C-4091-A086-EB25418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78C-F664-4043-AC08-DE383B95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3F2-9254-4A78-BA66-A1CCB27B0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960" y="447840"/>
            <a:ext cx="854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ut of breath, we reached the top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untain and stopped __________the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e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ing ; to admire         B. Being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ed; to admire            D.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88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14120" y="243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四）定语从句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60" y="990720"/>
            <a:ext cx="91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________ is useful to us i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       B. what          C. that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factory _____ the foreign visitors visited las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         B. that         C. which           D.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he will never forget the days ___ she spent in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B. what         C. which 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This is the school ___ my father worked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when          C. which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The text is one of the most interesting stories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ed in the past three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have               B. that have be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ich has              D. which has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424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9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91840" y="2581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30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34680" y="42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800" y="295200"/>
            <a:ext cx="902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llege won’t take on anyone ____ eyesight is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 B. whose         C. of whom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Let me think of a proper situation ______ this sent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B. that           C. which          D. of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man _______ you are talking is in the next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om       B. about whom       C. who 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is the last factory ______ he used to work at,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rs of ____ still have a good relationship with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it                    B. which; who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at; which            D. which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re is the bicycle ________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you saw it               B. that saw i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ou saw                           D. you saw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728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576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412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2767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64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2720" y="152280"/>
            <a:ext cx="9266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Those _______ to take part in the game write down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s, 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B. who want       C. that wants       D.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, _______ your good friend, will try my best to he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is        B. what is         C. what am    D. who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is walking-stick, ___ he can’t walk, was lost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ith which    C. which   D. with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re are three libraries in our school, ___ were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of them             B. either of th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of which            D. both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The reason ___ he can’t come is that he has to work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   B. that             C. why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760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94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46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920" y="380880"/>
            <a:ext cx="904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not the man __________ he us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 B. that          C. which           D.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This is the only thing _______ I can d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B. which        C. that            D.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 don’t like the way ________ he spoke to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y that          B. what            C. by which         D.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ey have decided to finish the work in time, 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hink, is a wise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what        C. which  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The family  ______ I stayed with in New York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ing  to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B. whom         C. what         D. w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0280" y="304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3280" y="121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328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110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181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120" y="142920"/>
            <a:ext cx="8512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 is not about getting high test scores,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IQ or sm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that creative thinking,one of the most hi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d skills in society,is a matter of ha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“think outside the box” is to try for new way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ew way of looking at a situation makes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s to discover new possi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awing or a model will help you see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ay otherwise remain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57400" y="91440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914400"/>
            <a:ext cx="2286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5480" y="623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051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376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743200"/>
            <a:ext cx="30456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0920" y="31910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276720"/>
            <a:ext cx="838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62920" y="4343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43434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6292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71500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0440" y="58579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3520" y="228600"/>
            <a:ext cx="866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thinkers aware of this and try to combine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ld ideas in many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 knew that for each new invention that wor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t least ten that do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where we go,we can hear about the ringing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ellphone and the tapping on a key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bably all want to find new ways to impr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life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keeps information in its mem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’s clearly different from other kinds of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14600" y="60912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609480"/>
            <a:ext cx="304920" cy="152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6764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0960" y="1971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81952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0800" y="34196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429000"/>
            <a:ext cx="5335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57200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4440" y="45626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495680"/>
            <a:ext cx="9907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2485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7400" y="60102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0492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82920" y="457200"/>
            <a:ext cx="327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顾虑到，顾及，为…作准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困住、被陷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冲破、脱离与…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限制在…范围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意识到，认识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、终究，到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既然、由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这么快的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断探索；反复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许多；大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持联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1840" y="3808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me up wi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7200" y="83808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0280" y="121932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et s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9080" y="167652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reak away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87440" y="214776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connec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6040" y="25909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limit…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29098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aware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66120" y="344340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similar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38000" y="380988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ft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5880" y="4267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now th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48840" y="472428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such a high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2520" y="51721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rial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2000" y="56293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great man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7440" y="6010200"/>
            <a:ext cx="22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keep tr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380880"/>
            <a:ext cx="14385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169200" y="1438200"/>
            <a:ext cx="961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sorry I can’t go with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? Haven’t you agr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is it                 B. What i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don’t you      D. What do you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Doing your homework is a way to improve you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 , and this is especially true ________it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fore ; gets               B. as ;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ince ; takes                D. when; come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74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10800" y="3952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7280" y="447840"/>
            <a:ext cx="8971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have anything in mind ___________you’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for supp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Well, ___________is okay with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; anything              B. which ;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whatever            D. where;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s it the factory ___________you visited last we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edible chopsticks are ma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/; that                  B. where ; wh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re; that          D. /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_________all the inventions have in common i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have succ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; that     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that                 D. That;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634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62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40" y="371520"/>
            <a:ext cx="896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urse normally attracts 20 students per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up to half will be from over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which      B. for whom   C. with which   D. of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Whenever I met her, _________was fairly frequ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 could see her sweet and hopeful sm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that      B. which ;  /      C. it ; that      D. it ;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British are not so familiar with different cul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ther ways of doing things, _________is oft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in other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    B. what           C. so         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are many cases__________students obvi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 a lot of English words and expressions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dn’t write a good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y            B. which       C. as 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77080" y="1666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76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0604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3360" y="76320"/>
            <a:ext cx="8954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new problem ________in the populari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cars _________road conditions ne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olving ; that              B. involved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involve ; where          D. to be involved;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We’re living in an age __________many thing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e on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B. that       C. whose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With a mask _________tightly over her face, it’s h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judge whether she was satisfied with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itting       B. going         C. fixing      D. co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News report said that the peace talk between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 _________without reaching any 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broken down                B. had broken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broken up                     D. had broken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288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0600" y="2200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39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952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7760" y="371520"/>
            <a:ext cx="893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ve passed the driving test, why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e the car on your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B. Since      C. Now that    D. So long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n the face of _________failure, it is important to k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good state of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 ; /          B. the  ; /           C. / ; the         D. / ;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n the west you need _________that there are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ccasions when certain types of clothes ne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w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ware                      B. to be 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etting to know      D. be awa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816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390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293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400" y="371520"/>
            <a:ext cx="8823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spring of the following year, these migr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s return to the identical barn or tre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cal district which they had left the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mer    B. following     C. previous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t is important for us to find good ways of do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. __________, you will waste time do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ever    B. Therefore      C. But      D.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It is a good idea to stand up and take a short wal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when you _____________in doing math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et stuck                B. has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eel hard                D. were stuc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380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72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83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58Z</dcterms:modified>
  <cp:revision>12</cp:revision>
  <dc:subject/>
  <dc:title>PowerPoint Presentation</dc:title>
</cp:coreProperties>
</file>